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30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800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3800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38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31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38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31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3800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7192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0584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3800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7192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0584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3800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3800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38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31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38000" y="6091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38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31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38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8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31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31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8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31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3800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285560" cy="685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3800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46280" y="304920"/>
            <a:ext cx="836784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1562040" cy="6856560"/>
          </a:xfrm>
          <a:prstGeom prst="rect">
            <a:avLst/>
          </a:prstGeom>
          <a:gradFill rotWithShape="0">
            <a:gsLst>
              <a:gs pos="0">
                <a:srgbClr val="00654b"/>
              </a:gs>
              <a:gs pos="50000">
                <a:srgbClr val="00cc99"/>
              </a:gs>
              <a:gs pos="100000">
                <a:srgbClr val="0065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25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65720" y="624852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3800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esson #8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000680" y="2286000"/>
            <a:ext cx="34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udges 1 - 2: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457880" y="3352680"/>
            <a:ext cx="2590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gs. 51-5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62040" y="0"/>
            <a:ext cx="45561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286680" y="533520"/>
            <a:ext cx="40003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mmary of Les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1. Judah's efforts and failures (1:1-21)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2. Joseph's efforts and failures (1:22-29)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3. Zebulun's failures (1:30)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4. Asher's failures (1:31-32)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5. Naphtali's failures (1:33)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6. Dan's failures (1:34-36)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7. Israel's failure to obey God (2:1-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38360" y="0"/>
            <a:ext cx="21985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48040" y="380880"/>
            <a:ext cx="6438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faithfulness of Israe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-2):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the death of Joshua Israel became unfaithful of God: The Consequences of not driving out nor killing all the gentiles they conquered (1:1:27,28,29,30,31,33)... they married their women and end up serving the false gods Baals (2:1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13 Cycles in the Book of Judges (2)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 1- The people worship the gods of other na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 2- God allows other nations to oppress Israel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 3- The people turn to God for help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 4- God raises up a leader to deliver them..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 ... and this leader becomes the Judge or Governor of Israel for several years, in peace, until the people strayed from God again... again and again for 13 times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86080" y="0"/>
            <a:ext cx="21970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24360" y="685800"/>
            <a:ext cx="5943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th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death of Joshu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Israelites purpose to attack the remaining Canaanites; and the tribe of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Juda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directed to go up first, v. 1-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Judah and Simeon uni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ttack the Canaanites and Perrizites, kill ten thousand of them, take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doni-beze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isoner, cut off his thumbs and great toes, and bring him to Jerusalem, where he dies, v. 3-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Jerusalem conquer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v. 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86080" y="2743200"/>
            <a:ext cx="129528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10160" y="0"/>
            <a:ext cx="3752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rom The Star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266760" y="2362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erusa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86080" y="0"/>
            <a:ext cx="21970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24360" y="533520"/>
            <a:ext cx="6172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w war with the Canaanites under the direction of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Cale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v. 9-1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Kirjath-sepher taken by Othni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on which he receives, as a reward, Achsah, the daughter of Caleb, and with her a south land with springs of water, v. 12-1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The Keni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well among the people, v. 1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dah and Simeon destroy the Canaanites in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Zephath, Gaz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tc., v. 17-1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523880"/>
            <a:ext cx="11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b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76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8880" y="1828800"/>
            <a:ext cx="1600200" cy="1523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028880" y="3962520"/>
            <a:ext cx="68580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86080" y="0"/>
            <a:ext cx="2197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24360" y="533520"/>
            <a:ext cx="61722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Hebr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s given to Caleb, v. 2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 the Benjamites, house of Joseph, tribe of Manasseh, etc., v. 21-2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Israelites put the Canaanites to tribute, v. 2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 the tribes of Ephraim, Zebulun, Asher, and Naphtali, v. 29-3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86080" y="0"/>
            <a:ext cx="2197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24360" y="533520"/>
            <a:ext cx="6172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Amorit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force the children of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Da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o the mountains, v. 34-3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dges 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 angel comes to the Israelites at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Bochi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nd gives them various reproofs, at which they are greatly affected, v. 1-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86080" y="0"/>
            <a:ext cx="21970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24360" y="5335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in Events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52960" y="1676520"/>
            <a:ext cx="5791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ttering of the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riarc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xod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quest of Can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20:29:54Z</dcterms:created>
  <dc:creator>Terry Benton</dc:creator>
  <dc:description/>
  <cp:keywords/>
  <dc:language>en-US</dc:language>
  <cp:lastModifiedBy>Terry W. Benton</cp:lastModifiedBy>
  <cp:lastPrinted>31146-01-14T19:25:53Z</cp:lastPrinted>
  <dcterms:modified xsi:type="dcterms:W3CDTF">2005-01-25T04:21:59Z</dcterms:modified>
  <cp:revision>6</cp:revision>
  <dc:subject/>
  <dc:title>Lesson #8</dc:title>
</cp:coreProperties>
</file>